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EBB-8F5A-44C9-974D-30F49EE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A97-7345-4EAB-8871-C837959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A43-392F-4A23-8B13-EA6A2B9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A0C-3C46-4BDF-B54A-4049F99E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FED-B124-4E58-B912-D3A023C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F23-0E5C-4BF2-A6B4-DBC5838A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ABC-4E4A-4585-9CA2-C608A881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646-090B-4CCF-B354-CCAFAB0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F7A-18A9-42AB-B518-8D28828D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3F8-0016-4BF4-9A5C-44C3000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2D8-7D55-449D-9A80-014FB4B8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1F6-690A-4F57-A1F5-38462E4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B28-33AC-49A3-A800-9DF5FC7EF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STREAM TEMPERATURE BENE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ucted by Tom Payne and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86200" y="1752480"/>
            <a:ext cx="4648320" cy="4648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72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1752480"/>
            <a:ext cx="243828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752480"/>
            <a:ext cx="2362320" cy="4572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5840" y="1123920"/>
            <a:ext cx="677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1754280"/>
            <a:ext cx="4725720" cy="4570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85760" y="1052640"/>
            <a:ext cx="6972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95480" y="342900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3886200"/>
            <a:ext cx="75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2971800"/>
            <a:ext cx="99036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267080"/>
            <a:ext cx="91440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43000" y="1455840"/>
            <a:ext cx="7162920" cy="4487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2438280"/>
            <a:ext cx="71629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4952880"/>
            <a:ext cx="7162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East Bran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14360" y="1209600"/>
            <a:ext cx="6515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7080" y="21337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62400" y="3286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733920"/>
            <a:ext cx="126684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nyon Dam 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981080"/>
            <a:ext cx="14475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attville In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8128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523880"/>
            <a:ext cx="914400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eca Reach Instream Flow Release at Canyo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73392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den Reach Instream Flow Release at Belde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Modeling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ditions (SN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eam Flow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4800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eam Network Temperature Model (SNTEM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omain developed by USF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lete full suite heat flux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geometry, riparian and topographic sh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butaries and accretion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orological correction for elevation cha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oral and spatial water temper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FFR - daily average temperatures with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684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10680" cy="575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Profiles with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800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yon 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90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001000" cy="443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Temperatu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2514600"/>
            <a:ext cx="7467480" cy="3962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71600"/>
            <a:ext cx="746748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5400" y="1574640"/>
            <a:ext cx="7691040" cy="1168200"/>
            <a:chOff x="995400" y="1574640"/>
            <a:chExt cx="7691040" cy="1168200"/>
          </a:xfrm>
        </p:grpSpPr>
        <p:grpSp>
          <p:nvGrpSpPr>
            <p:cNvPr id="63" name=""/>
            <p:cNvGrpSpPr/>
            <p:nvPr/>
          </p:nvGrpSpPr>
          <p:grpSpPr>
            <a:xfrm>
              <a:off x="995400" y="1574640"/>
              <a:ext cx="7691040" cy="911160"/>
              <a:chOff x="995400" y="1574640"/>
              <a:chExt cx="7691040" cy="9111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995400" y="1574640"/>
                <a:ext cx="1679040" cy="255600"/>
                <a:chOff x="995400" y="1574640"/>
                <a:chExt cx="1679040" cy="2556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073520" y="1574640"/>
                  <a:ext cx="15228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95400" y="1574640"/>
                  <a:ext cx="1679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2674800" y="1622160"/>
                <a:ext cx="2927160" cy="255600"/>
                <a:chOff x="2674800" y="1622160"/>
                <a:chExt cx="2927160" cy="2556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2752920" y="1622160"/>
                  <a:ext cx="2770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74800" y="1622160"/>
                  <a:ext cx="29271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602320" y="1620720"/>
                <a:ext cx="3084120" cy="257040"/>
                <a:chOff x="5602320" y="1620720"/>
                <a:chExt cx="3084120" cy="257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686560" y="1620720"/>
                  <a:ext cx="2914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02320" y="1620720"/>
                  <a:ext cx="30841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995400" y="1830240"/>
                <a:ext cx="1679040" cy="326880"/>
                <a:chOff x="995400" y="1830240"/>
                <a:chExt cx="1679040" cy="326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073520" y="1830240"/>
                  <a:ext cx="1522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95400" y="1830240"/>
                  <a:ext cx="1679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74800" y="1954080"/>
                <a:ext cx="1185480" cy="326880"/>
                <a:chOff x="2674800" y="1954080"/>
                <a:chExt cx="1185480" cy="326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752920" y="1954080"/>
                  <a:ext cx="10292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74800" y="1954080"/>
                  <a:ext cx="11854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860640" y="1954080"/>
                <a:ext cx="749160" cy="326880"/>
                <a:chOff x="3860640" y="1954080"/>
                <a:chExt cx="749160" cy="326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938760" y="1954080"/>
                  <a:ext cx="592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6064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10160" y="1954080"/>
                <a:ext cx="991800" cy="326880"/>
                <a:chOff x="4610160" y="1954080"/>
                <a:chExt cx="991800" cy="326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88280" y="1954080"/>
                  <a:ext cx="8352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10160" y="1954080"/>
                  <a:ext cx="991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602320" y="1954080"/>
                <a:ext cx="1186920" cy="326880"/>
                <a:chOff x="5602320" y="1954080"/>
                <a:chExt cx="1186920" cy="326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80080" y="1954080"/>
                  <a:ext cx="10306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602320" y="1954080"/>
                  <a:ext cx="1186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789600" y="1954080"/>
                <a:ext cx="749160" cy="326880"/>
                <a:chOff x="6789600" y="1954080"/>
                <a:chExt cx="749160" cy="326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867720" y="1954080"/>
                  <a:ext cx="5925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8960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539120" y="1954080"/>
                <a:ext cx="995040" cy="326880"/>
                <a:chOff x="7539120" y="1954080"/>
                <a:chExt cx="995040" cy="326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623720" y="1954080"/>
                  <a:ext cx="8251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539120" y="1954080"/>
                  <a:ext cx="995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995400" y="2157120"/>
                <a:ext cx="1679040" cy="328680"/>
                <a:chOff x="995400" y="2157120"/>
                <a:chExt cx="1679040" cy="32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073520" y="2157120"/>
                  <a:ext cx="1522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995400" y="2157120"/>
                  <a:ext cx="1679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674800" y="2157120"/>
                <a:ext cx="1185480" cy="328680"/>
                <a:chOff x="2674800" y="2157120"/>
                <a:chExt cx="1185480" cy="32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752920" y="2157120"/>
                  <a:ext cx="10292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74800" y="2157120"/>
                  <a:ext cx="11854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860640" y="2157120"/>
                <a:ext cx="749160" cy="328680"/>
                <a:chOff x="3860640" y="2157120"/>
                <a:chExt cx="749160" cy="32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938760" y="2157120"/>
                  <a:ext cx="592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6064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610160" y="2157120"/>
                <a:ext cx="991800" cy="328680"/>
                <a:chOff x="4610160" y="2157120"/>
                <a:chExt cx="991800" cy="328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88280" y="2157120"/>
                  <a:ext cx="8352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10160" y="2157120"/>
                  <a:ext cx="991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602320" y="2157120"/>
                <a:ext cx="1186920" cy="328680"/>
                <a:chOff x="5602320" y="2157120"/>
                <a:chExt cx="1186920" cy="328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80080" y="2157120"/>
                  <a:ext cx="103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02320" y="2157120"/>
                  <a:ext cx="1186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89600" y="2157120"/>
                <a:ext cx="749160" cy="328680"/>
                <a:chOff x="6789600" y="2157120"/>
                <a:chExt cx="749160" cy="328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67720" y="2157120"/>
                  <a:ext cx="5925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8960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539120" y="2157120"/>
                <a:ext cx="914040" cy="328680"/>
                <a:chOff x="7539120" y="2157120"/>
                <a:chExt cx="914040" cy="328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16880" y="2157120"/>
                  <a:ext cx="757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539120" y="2157120"/>
                  <a:ext cx="914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995400" y="2487240"/>
              <a:ext cx="1679040" cy="255600"/>
              <a:chOff x="995400" y="2487240"/>
              <a:chExt cx="1679040" cy="255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73520" y="2487240"/>
                <a:ext cx="1522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95400" y="2487240"/>
                <a:ext cx="1679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674800" y="2412720"/>
              <a:ext cx="1185480" cy="255600"/>
              <a:chOff x="2674800" y="2412720"/>
              <a:chExt cx="1185480" cy="255600"/>
            </a:xfrm>
          </p:grpSpPr>
          <p:sp>
            <p:nvSpPr>
              <p:cNvPr id="119" name=""/>
              <p:cNvSpPr/>
              <p:nvPr/>
            </p:nvSpPr>
            <p:spPr>
              <a:xfrm>
                <a:off x="2752920" y="2412720"/>
                <a:ext cx="10292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74800" y="2412720"/>
                <a:ext cx="11854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860640" y="2412720"/>
              <a:ext cx="749160" cy="255600"/>
              <a:chOff x="3860640" y="2412720"/>
              <a:chExt cx="749160" cy="255600"/>
            </a:xfrm>
          </p:grpSpPr>
          <p:sp>
            <p:nvSpPr>
              <p:cNvPr id="122" name=""/>
              <p:cNvSpPr/>
              <p:nvPr/>
            </p:nvSpPr>
            <p:spPr>
              <a:xfrm>
                <a:off x="3938760" y="2412720"/>
                <a:ext cx="592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6064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610160" y="2412720"/>
              <a:ext cx="991800" cy="255600"/>
              <a:chOff x="4610160" y="2412720"/>
              <a:chExt cx="991800" cy="255600"/>
            </a:xfrm>
          </p:grpSpPr>
          <p:sp>
            <p:nvSpPr>
              <p:cNvPr id="125" name=""/>
              <p:cNvSpPr/>
              <p:nvPr/>
            </p:nvSpPr>
            <p:spPr>
              <a:xfrm>
                <a:off x="4688280" y="2412720"/>
                <a:ext cx="8352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10160" y="2412720"/>
                <a:ext cx="991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02320" y="2412720"/>
              <a:ext cx="1186920" cy="255600"/>
              <a:chOff x="5602320" y="2412720"/>
              <a:chExt cx="1186920" cy="255600"/>
            </a:xfrm>
          </p:grpSpPr>
          <p:sp>
            <p:nvSpPr>
              <p:cNvPr id="128" name=""/>
              <p:cNvSpPr/>
              <p:nvPr/>
            </p:nvSpPr>
            <p:spPr>
              <a:xfrm>
                <a:off x="5680080" y="2412720"/>
                <a:ext cx="10306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02320" y="2412720"/>
                <a:ext cx="1186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789600" y="2412720"/>
              <a:ext cx="749160" cy="255600"/>
              <a:chOff x="6789600" y="2412720"/>
              <a:chExt cx="749160" cy="255600"/>
            </a:xfrm>
          </p:grpSpPr>
          <p:sp>
            <p:nvSpPr>
              <p:cNvPr id="131" name=""/>
              <p:cNvSpPr/>
              <p:nvPr/>
            </p:nvSpPr>
            <p:spPr>
              <a:xfrm>
                <a:off x="6867720" y="2412720"/>
                <a:ext cx="5925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960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39120" y="2412720"/>
              <a:ext cx="914040" cy="255600"/>
              <a:chOff x="7539120" y="2412720"/>
              <a:chExt cx="914040" cy="25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7616880" y="2412720"/>
                <a:ext cx="757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39120" y="2412720"/>
                <a:ext cx="914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995400" y="2819520"/>
            <a:ext cx="7457760" cy="255600"/>
            <a:chOff x="995400" y="2819520"/>
            <a:chExt cx="7457760" cy="255600"/>
          </a:xfrm>
        </p:grpSpPr>
        <p:sp>
          <p:nvSpPr>
            <p:cNvPr id="137" name=""/>
            <p:cNvSpPr/>
            <p:nvPr/>
          </p:nvSpPr>
          <p:spPr>
            <a:xfrm>
              <a:off x="1073520" y="2819520"/>
              <a:ext cx="7301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eca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5400" y="2819520"/>
              <a:ext cx="7457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73160" y="3049560"/>
            <a:ext cx="1898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neca Bridge (NF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5400" y="3048120"/>
            <a:ext cx="1976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2560" y="3049560"/>
            <a:ext cx="1030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0" y="3049560"/>
            <a:ext cx="1185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760" y="3049560"/>
            <a:ext cx="593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064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3049560"/>
            <a:ext cx="83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0160" y="3049560"/>
            <a:ext cx="992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0080" y="3049560"/>
            <a:ext cx="1031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5.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02320" y="3049560"/>
            <a:ext cx="118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3049560"/>
            <a:ext cx="594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960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6880" y="3049560"/>
            <a:ext cx="75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9120" y="3049560"/>
            <a:ext cx="914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3160" y="3451320"/>
            <a:ext cx="1523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Caribou Powerhouse (NF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5400" y="3451320"/>
            <a:ext cx="1679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52560" y="3451320"/>
            <a:ext cx="1030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3451320"/>
            <a:ext cx="118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760" y="3451320"/>
            <a:ext cx="593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6064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7920" y="3451320"/>
            <a:ext cx="836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0160" y="3451320"/>
            <a:ext cx="992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0080" y="3451320"/>
            <a:ext cx="1031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2320" y="3451320"/>
            <a:ext cx="11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7360" y="3451320"/>
            <a:ext cx="59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960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16880" y="3451320"/>
            <a:ext cx="758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9120" y="3451320"/>
            <a:ext cx="914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5400" y="3886200"/>
            <a:ext cx="1679040" cy="255600"/>
            <a:chOff x="995400" y="3886200"/>
            <a:chExt cx="1679040" cy="255600"/>
          </a:xfrm>
        </p:grpSpPr>
        <p:sp>
          <p:nvSpPr>
            <p:cNvPr id="168" name=""/>
            <p:cNvSpPr/>
            <p:nvPr/>
          </p:nvSpPr>
          <p:spPr>
            <a:xfrm>
              <a:off x="1073520" y="388620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5400" y="388620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74800" y="3886200"/>
            <a:ext cx="2927160" cy="255600"/>
            <a:chOff x="2674800" y="3886200"/>
            <a:chExt cx="2927160" cy="255600"/>
          </a:xfrm>
        </p:grpSpPr>
        <p:sp>
          <p:nvSpPr>
            <p:cNvPr id="171" name=""/>
            <p:cNvSpPr/>
            <p:nvPr/>
          </p:nvSpPr>
          <p:spPr>
            <a:xfrm>
              <a:off x="2752920" y="3886200"/>
              <a:ext cx="2770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74800" y="3886200"/>
              <a:ext cx="2927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602320" y="3886200"/>
            <a:ext cx="2850840" cy="255600"/>
            <a:chOff x="5602320" y="3886200"/>
            <a:chExt cx="2850840" cy="255600"/>
          </a:xfrm>
        </p:grpSpPr>
        <p:sp>
          <p:nvSpPr>
            <p:cNvPr id="174" name=""/>
            <p:cNvSpPr/>
            <p:nvPr/>
          </p:nvSpPr>
          <p:spPr>
            <a:xfrm>
              <a:off x="5680080" y="3886200"/>
              <a:ext cx="269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02320" y="3886200"/>
              <a:ext cx="28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5400" y="4141800"/>
            <a:ext cx="7457760" cy="254160"/>
            <a:chOff x="995400" y="4141800"/>
            <a:chExt cx="7457760" cy="254160"/>
          </a:xfrm>
        </p:grpSpPr>
        <p:sp>
          <p:nvSpPr>
            <p:cNvPr id="177" name=""/>
            <p:cNvSpPr/>
            <p:nvPr/>
          </p:nvSpPr>
          <p:spPr>
            <a:xfrm>
              <a:off x="1073520" y="4141800"/>
              <a:ext cx="7301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wer Butt Creek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5400" y="4141800"/>
              <a:ext cx="74577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5400" y="4419720"/>
            <a:ext cx="1679040" cy="255600"/>
            <a:chOff x="995400" y="4419720"/>
            <a:chExt cx="1679040" cy="255600"/>
          </a:xfrm>
        </p:grpSpPr>
        <p:sp>
          <p:nvSpPr>
            <p:cNvPr id="180" name=""/>
            <p:cNvSpPr/>
            <p:nvPr/>
          </p:nvSpPr>
          <p:spPr>
            <a:xfrm>
              <a:off x="1073520" y="441972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 mouth (BC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5400" y="441972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4800" y="4419720"/>
            <a:ext cx="1185480" cy="255600"/>
            <a:chOff x="2674800" y="4419720"/>
            <a:chExt cx="1185480" cy="255600"/>
          </a:xfrm>
        </p:grpSpPr>
        <p:sp>
          <p:nvSpPr>
            <p:cNvPr id="183" name=""/>
            <p:cNvSpPr/>
            <p:nvPr/>
          </p:nvSpPr>
          <p:spPr>
            <a:xfrm>
              <a:off x="2752920" y="4419720"/>
              <a:ext cx="1029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2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74800" y="4419720"/>
              <a:ext cx="1185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860640" y="4419720"/>
            <a:ext cx="749160" cy="255600"/>
            <a:chOff x="3860640" y="4419720"/>
            <a:chExt cx="749160" cy="255600"/>
          </a:xfrm>
        </p:grpSpPr>
        <p:sp>
          <p:nvSpPr>
            <p:cNvPr id="186" name=""/>
            <p:cNvSpPr/>
            <p:nvPr/>
          </p:nvSpPr>
          <p:spPr>
            <a:xfrm>
              <a:off x="3938760" y="4419720"/>
              <a:ext cx="592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064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0160" y="4419720"/>
            <a:ext cx="991800" cy="255600"/>
            <a:chOff x="4610160" y="4419720"/>
            <a:chExt cx="991800" cy="255600"/>
          </a:xfrm>
        </p:grpSpPr>
        <p:sp>
          <p:nvSpPr>
            <p:cNvPr id="189" name=""/>
            <p:cNvSpPr/>
            <p:nvPr/>
          </p:nvSpPr>
          <p:spPr>
            <a:xfrm>
              <a:off x="4688280" y="4419720"/>
              <a:ext cx="835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0160" y="4419720"/>
              <a:ext cx="99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02320" y="4419720"/>
            <a:ext cx="1186920" cy="255600"/>
            <a:chOff x="5602320" y="4419720"/>
            <a:chExt cx="1186920" cy="255600"/>
          </a:xfrm>
        </p:grpSpPr>
        <p:sp>
          <p:nvSpPr>
            <p:cNvPr id="192" name=""/>
            <p:cNvSpPr/>
            <p:nvPr/>
          </p:nvSpPr>
          <p:spPr>
            <a:xfrm>
              <a:off x="5680080" y="4419720"/>
              <a:ext cx="1030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4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02320" y="4419720"/>
              <a:ext cx="118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89600" y="4419720"/>
            <a:ext cx="749160" cy="255600"/>
            <a:chOff x="6789600" y="4419720"/>
            <a:chExt cx="749160" cy="255600"/>
          </a:xfrm>
        </p:grpSpPr>
        <p:sp>
          <p:nvSpPr>
            <p:cNvPr id="195" name=""/>
            <p:cNvSpPr/>
            <p:nvPr/>
          </p:nvSpPr>
          <p:spPr>
            <a:xfrm>
              <a:off x="6867720" y="4419720"/>
              <a:ext cx="592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960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39120" y="4419720"/>
            <a:ext cx="914040" cy="255600"/>
            <a:chOff x="7539120" y="4419720"/>
            <a:chExt cx="914040" cy="255600"/>
          </a:xfrm>
        </p:grpSpPr>
        <p:sp>
          <p:nvSpPr>
            <p:cNvPr id="198" name=""/>
            <p:cNvSpPr/>
            <p:nvPr/>
          </p:nvSpPr>
          <p:spPr>
            <a:xfrm>
              <a:off x="7616880" y="4419720"/>
              <a:ext cx="757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9120" y="4419720"/>
              <a:ext cx="914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8480" y="4876920"/>
            <a:ext cx="730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den Reach Stream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73160" y="5105520"/>
            <a:ext cx="1523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of Queen Lily (NF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5400" y="5105520"/>
            <a:ext cx="1679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52560" y="5105520"/>
            <a:ext cx="1030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4800" y="5140440"/>
            <a:ext cx="1185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38760" y="5105520"/>
            <a:ext cx="5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6064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7920" y="5105520"/>
            <a:ext cx="836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0160" y="5140440"/>
            <a:ext cx="992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80080" y="5105520"/>
            <a:ext cx="1031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02320" y="5140440"/>
            <a:ext cx="118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5105520"/>
            <a:ext cx="59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960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16880" y="510552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39120" y="5140440"/>
            <a:ext cx="914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5400" y="5545080"/>
            <a:ext cx="1679040" cy="474840"/>
            <a:chOff x="995400" y="5545080"/>
            <a:chExt cx="1679040" cy="474840"/>
          </a:xfrm>
        </p:grpSpPr>
        <p:sp>
          <p:nvSpPr>
            <p:cNvPr id="216" name=""/>
            <p:cNvSpPr/>
            <p:nvPr/>
          </p:nvSpPr>
          <p:spPr>
            <a:xfrm>
              <a:off x="1073520" y="5545080"/>
              <a:ext cx="1522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ansner Bar Campground (NF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5400" y="5545080"/>
              <a:ext cx="1679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74800" y="5545080"/>
            <a:ext cx="1185480" cy="474840"/>
            <a:chOff x="2674800" y="5545080"/>
            <a:chExt cx="1185480" cy="474840"/>
          </a:xfrm>
        </p:grpSpPr>
        <p:sp>
          <p:nvSpPr>
            <p:cNvPr id="219" name=""/>
            <p:cNvSpPr/>
            <p:nvPr/>
          </p:nvSpPr>
          <p:spPr>
            <a:xfrm>
              <a:off x="2752920" y="5545080"/>
              <a:ext cx="1029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4800" y="5545080"/>
              <a:ext cx="1185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860640" y="5545080"/>
            <a:ext cx="749160" cy="474840"/>
            <a:chOff x="3860640" y="5545080"/>
            <a:chExt cx="749160" cy="474840"/>
          </a:xfrm>
        </p:grpSpPr>
        <p:sp>
          <p:nvSpPr>
            <p:cNvPr id="222" name=""/>
            <p:cNvSpPr/>
            <p:nvPr/>
          </p:nvSpPr>
          <p:spPr>
            <a:xfrm>
              <a:off x="3938760" y="5545080"/>
              <a:ext cx="592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6064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10160" y="5545080"/>
            <a:ext cx="991800" cy="474840"/>
            <a:chOff x="4610160" y="5545080"/>
            <a:chExt cx="991800" cy="474840"/>
          </a:xfrm>
        </p:grpSpPr>
        <p:sp>
          <p:nvSpPr>
            <p:cNvPr id="225" name=""/>
            <p:cNvSpPr/>
            <p:nvPr/>
          </p:nvSpPr>
          <p:spPr>
            <a:xfrm>
              <a:off x="4688280" y="5545080"/>
              <a:ext cx="83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0160" y="5545080"/>
              <a:ext cx="991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02320" y="5545080"/>
            <a:ext cx="1186920" cy="474840"/>
            <a:chOff x="5602320" y="5545080"/>
            <a:chExt cx="1186920" cy="474840"/>
          </a:xfrm>
        </p:grpSpPr>
        <p:sp>
          <p:nvSpPr>
            <p:cNvPr id="228" name=""/>
            <p:cNvSpPr/>
            <p:nvPr/>
          </p:nvSpPr>
          <p:spPr>
            <a:xfrm>
              <a:off x="5680080" y="5545080"/>
              <a:ext cx="1030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02320" y="5545080"/>
              <a:ext cx="118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89600" y="5545080"/>
            <a:ext cx="749160" cy="474840"/>
            <a:chOff x="6789600" y="5545080"/>
            <a:chExt cx="749160" cy="474840"/>
          </a:xfrm>
        </p:grpSpPr>
        <p:sp>
          <p:nvSpPr>
            <p:cNvPr id="231" name=""/>
            <p:cNvSpPr/>
            <p:nvPr/>
          </p:nvSpPr>
          <p:spPr>
            <a:xfrm>
              <a:off x="6867720" y="5545080"/>
              <a:ext cx="59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960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539120" y="5545080"/>
            <a:ext cx="914040" cy="474840"/>
            <a:chOff x="7539120" y="5545080"/>
            <a:chExt cx="914040" cy="474840"/>
          </a:xfrm>
        </p:grpSpPr>
        <p:sp>
          <p:nvSpPr>
            <p:cNvPr id="234" name=""/>
            <p:cNvSpPr/>
            <p:nvPr/>
          </p:nvSpPr>
          <p:spPr>
            <a:xfrm>
              <a:off x="7616880" y="5545080"/>
              <a:ext cx="75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39120" y="5545080"/>
              <a:ext cx="914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073160" y="6078600"/>
            <a:ext cx="1523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Belden Powerhouse (NF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400" y="6078600"/>
            <a:ext cx="1679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6078600"/>
            <a:ext cx="1030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74800" y="6078600"/>
            <a:ext cx="1185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8760" y="6078600"/>
            <a:ext cx="59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0640" y="607860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7920" y="6078600"/>
            <a:ext cx="836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0160" y="6078600"/>
            <a:ext cx="992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80080" y="6078600"/>
            <a:ext cx="1031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6078600"/>
            <a:ext cx="1187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6080040"/>
            <a:ext cx="59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9600" y="608004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16880" y="6078600"/>
            <a:ext cx="75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39120" y="6078600"/>
            <a:ext cx="91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TEMP Modeling 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Modeling Conditions (SNTEMP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Conditions (SC) from MITEMP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temperature range by 3 probabilities of occurrence (50%, 25% and 10% exceedance lev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 Case (50% SC/Normal met/Normal WY accret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sonable Extreme (25% SC/Warm met/Dry 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re Events (10% SC/Warm met/ Dry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instream flow schedules (associated with Wet, Normal, Dry and Critical Dry water year types)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Instream Flow Schedule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months in the summer (June-Septe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Modeled Operation Scenarios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– Existing Prattville/Existing Butt Valley Reservoir (BV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d Prattville Intak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xisting BVR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=curtain no. 4 in IIHR stu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2 with Levees removed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3 with blending of Canyon Dam rele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7:36:22Z</dcterms:created>
  <dc:creator>LKE1</dc:creator>
  <dc:description/>
  <dc:language>en-US</dc:language>
  <cp:lastModifiedBy>Scott Tu</cp:lastModifiedBy>
  <dcterms:modified xsi:type="dcterms:W3CDTF">2004-01-22T22:42:26Z</dcterms:modified>
  <cp:revision>105</cp:revision>
  <dc:subject/>
  <dc:title>PowerPoint Presentation</dc:title>
</cp:coreProperties>
</file>